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CAB-F9C4-4E52-8BEB-263A17B4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E32-5DD9-4B47-AC8E-DD54F37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B74-CD63-4513-A4B7-D24D6AEB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8E3-F8F2-4074-921C-B9516835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1D5-93D4-40DA-B605-F0B7D049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3E2-D1CF-4430-8E21-369567F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65F0-39B3-4916-A401-94D455EB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99D7-B8D1-417C-9767-D8A88C4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EBC0-5DAE-43A7-A38E-D5BCBA8D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5285-CE51-4A03-B55A-52361E4C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94AE-2B6C-405F-8EF6-047B219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87A-7566-4D77-A439-3063C34D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21D2-7751-41C3-BD55-0A1D086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7AF-6E0D-49D9-BDE4-978C0CC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F54E-F00F-4061-8351-44EB73D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5F3-D5CD-482D-92EB-DC6F9849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2D74-E7C7-432D-B940-B7162261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588-E3A1-43C8-92E7-3D92A92F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E67-4A4C-4681-B9B4-790761B6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B66-89FF-4F4C-A65B-47CA5C0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708-6D94-4A16-A1B9-D6BE04D6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D06-CBE9-43A4-9DD1-A730CD5A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1EA-0D70-400B-BA7D-3A9FC9B4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D1A-3863-4A9D-BC03-34249B0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DF1D-67FC-40A8-A737-B10C03E0A2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3939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84848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4343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c3c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e3e3e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3535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4444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53535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3535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97C7-76B1-4A2A-8662-B377573507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2.verizo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alliance.cingularinteractive.com/dev/cda/home" TargetMode="External"/><Relationship Id="rId6" Type="http://schemas.openxmlformats.org/officeDocument/2006/relationships/image" Target="../media/image4.png"/><Relationship Id="rId7" Type="http://schemas.openxmlformats.org/officeDocument/2006/relationships/hyperlink" Target="http://www.t-mobile.com/personal/individual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2351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Optimal Cellular Plan Finder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c458"/>
                </a:solidFill>
                <a:uFillTx/>
                <a:latin typeface="Times New Roman"/>
              </a:rPr>
              <a:t>Team 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nthony Alexa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Allan Bo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Jacques Bleind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c458"/>
                </a:solidFill>
                <a:latin typeface="Times New Roman"/>
              </a:rPr>
              <a:t>Keith Single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Veriz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1371600" cy="345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Sprint Logo"/>
          <p:cNvPicPr/>
          <p:nvPr/>
        </p:nvPicPr>
        <p:blipFill>
          <a:blip r:embed="rId3"/>
          <a:stretch/>
        </p:blipFill>
        <p:spPr>
          <a:xfrm>
            <a:off x="1828800" y="604800"/>
            <a:ext cx="1066680" cy="690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NEXTEL"/>
          <p:cNvPicPr/>
          <p:nvPr/>
        </p:nvPicPr>
        <p:blipFill>
          <a:blip r:embed="rId4"/>
          <a:stretch/>
        </p:blipFill>
        <p:spPr>
          <a:xfrm>
            <a:off x="7620120" y="685800"/>
            <a:ext cx="1295280" cy="4906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cingula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24080" y="762120"/>
            <a:ext cx="129564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T-Mobile US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762120"/>
            <a:ext cx="1371600" cy="341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AT&amp;T Wireless"/>
          <p:cNvPicPr/>
          <p:nvPr/>
        </p:nvPicPr>
        <p:blipFill>
          <a:blip r:embed="rId9"/>
          <a:stretch/>
        </p:blipFill>
        <p:spPr>
          <a:xfrm>
            <a:off x="6172200" y="762120"/>
            <a:ext cx="129528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ata In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7724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Run Crystal Ball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20" y="4114800"/>
            <a:ext cx="1292760" cy="901800"/>
            <a:chOff x="2520" y="4114800"/>
            <a:chExt cx="1292760" cy="901800"/>
          </a:xfrm>
        </p:grpSpPr>
        <p:sp>
          <p:nvSpPr>
            <p:cNvPr id="243" name=""/>
            <p:cNvSpPr/>
            <p:nvPr/>
          </p:nvSpPr>
          <p:spPr>
            <a:xfrm flipV="1">
              <a:off x="685800" y="4114800"/>
              <a:ext cx="6094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0" y="464832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lan-Typ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298520" y="4114440"/>
            <a:ext cx="2282760" cy="1785960"/>
            <a:chOff x="1298520" y="4114440"/>
            <a:chExt cx="2282760" cy="1785960"/>
          </a:xfrm>
        </p:grpSpPr>
        <p:sp>
          <p:nvSpPr>
            <p:cNvPr id="246" name=""/>
            <p:cNvSpPr/>
            <p:nvPr/>
          </p:nvSpPr>
          <p:spPr>
            <a:xfrm flipV="1">
              <a:off x="2286000" y="4114440"/>
              <a:ext cx="1295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98520" y="525780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alcula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istic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352680" y="4114440"/>
            <a:ext cx="3276720" cy="2243160"/>
            <a:chOff x="3352680" y="4114440"/>
            <a:chExt cx="3276720" cy="2243160"/>
          </a:xfrm>
        </p:grpSpPr>
        <p:sp>
          <p:nvSpPr>
            <p:cNvPr id="249" name=""/>
            <p:cNvSpPr/>
            <p:nvPr/>
          </p:nvSpPr>
          <p:spPr>
            <a:xfrm flipV="1">
              <a:off x="4648320" y="4114440"/>
              <a:ext cx="1981080" cy="16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571500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imulation – Daytime Minutes per Mont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582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utput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I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8394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Which is the Optimal Choice?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295280"/>
          <a:ext cx="9144000" cy="518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1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209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Demonstr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Limitations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90296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ination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distribution of monthly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bersome – due to Crystal Ball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ac458"/>
                </a:solidFill>
                <a:latin typeface="Times New Roman"/>
              </a:rPr>
              <a:t>Q&amp;A</a:t>
            </a:r>
            <a:endParaRPr b="0" lang="en-US" sz="9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2819160"/>
            <a:ext cx="82263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genda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Background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live in New York and need a new cellular phone plan since your current plan is going to exp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desire a model to review cellular plans of all the major providers to make an optimal dec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identify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owest c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llular Plan with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ghest qu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usage patterns 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vs. Off-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ekday vs. Week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ing vs. Out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-network vs. Out-of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Formulation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daytime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al cost of excess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ghts and Weekend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llover minutes plan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ac458"/>
                </a:solidFill>
                <a:latin typeface="Times New Roman"/>
              </a:rPr>
              <a:t>Assumptions</a:t>
            </a:r>
            <a:endParaRPr b="0" lang="en-US" sz="5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192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incur switching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does not have any budgetary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thly minutes used are normally 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73680" y="1598760"/>
            <a:ext cx="3813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er is evaluating nationwid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-network calls are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lans offer free nights and weeke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months of cellular 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 model derives monthly mean of day calls and standard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-80460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te crystal ball to simulate twelve  months of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33"/>
            </a:gs>
            <a:gs pos="100000">
              <a:srgbClr val="5252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ac458"/>
                </a:solidFill>
                <a:latin typeface="Times New Roman"/>
              </a:rPr>
              <a:t>Model Overview</a:t>
            </a:r>
            <a:endParaRPr b="0" lang="en-US" sz="5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nual cost for all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west cost plan by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99"/>
              </a:spcBef>
              <a:buClr>
                <a:srgbClr val="c0c0c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frontier of possibl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1:43:27Z</dcterms:created>
  <dc:creator>Stern School of Business</dc:creator>
  <dc:description/>
  <dc:language>en-US</dc:language>
  <cp:lastModifiedBy>baseuser</cp:lastModifiedBy>
  <dcterms:modified xsi:type="dcterms:W3CDTF">2004-05-03T17:32:43Z</dcterms:modified>
  <cp:revision>20</cp:revision>
  <dc:subject/>
  <dc:title>Slide 1</dc:title>
</cp:coreProperties>
</file>